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073-658B-4243-970E-DCC5E478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D36-293B-4A5C-8C30-AF4E24C4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EF2-4120-4F71-BF03-3A173B74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73A-32AC-4507-B3AB-1B754452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B63-CE2C-4612-9CEF-2CEAF1A8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1DE-EB0B-499D-B351-B440A025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C3C-4FEB-428E-853C-99D4C344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5A52-D2E3-48CC-B565-D8F062A3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24B4-26CD-47AC-A90A-AD63F7F7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C9A3-0A82-458D-B6D3-362DA498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4BF-8393-4364-925F-0403A9DC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FA24-A3C2-4271-AD10-AA218137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BE2F9-28F7-449D-A8AC-6A3DF491CF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 and CM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 towards CMap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MAE - CMap Assembly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 F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12720" y="1690560"/>
            <a:ext cx="707580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lighted Features in CMap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8000" y="218772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t plot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t map gly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igurable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twork install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t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271520"/>
            <a:ext cx="4559400" cy="535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10552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t Map Feature Gly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91040" y="1589040"/>
            <a:ext cx="162540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h to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up Chado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MWare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E – CMap Assembly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742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